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0F57B-01B8-46DC-B466-7193DE0B9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68844-059A-4063-ABA7-9066E2A64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32DB9-9B45-48A3-89C4-689D74336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28EFC-D9A4-4CD4-B4D5-FAA1C44B9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59E20-A667-4148-AEC2-FB8350D83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19F3C-40DF-49A4-8C86-5F2DA5EE8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5FAA8-26AB-45EC-BBD3-DCBAB90A5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0F46F-8C46-42D4-9336-FF1ADCD2E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FC4F1-AA11-4921-B374-2979530AB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C00BA-E59A-4F18-9518-B6521D4AE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10AD6-532A-4E04-BE40-C7AF4612E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E9B05-359C-4E47-8BF5-8C3836BC8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24588-41AF-4529-9C7A-247C0FEE8510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46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대학교병원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80520" y="4436640"/>
            <a:ext cx="8533080" cy="186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생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김은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혜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기간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8.12.29 ~ 09.02.20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교 통 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치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광역시 서구 구덕로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5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하철 이용시 편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 지하철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선 토성동역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번 출구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 내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화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머리망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블라우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카라있는 면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초기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퇴근시 정장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후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편안한 복장으로 출퇴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말 휴무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5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+</a:t>
            </a:r>
            <a:r>
              <a:rPr b="1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α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원 식당에서 해결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권구입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,5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물리치료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장님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실장님 외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5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8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SOAP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노트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주일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씩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첫 주 제외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약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에 한번 걷어서 검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과제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논문 번역 발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실습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8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실습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을 접할 수 있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직접 환자를  다룰 수 있는 기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밥이 비싸고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이 좁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Windows XP</cp:lastModifiedBy>
  <dcterms:modified xsi:type="dcterms:W3CDTF">2009-04-09T08:11:46Z</dcterms:modified>
  <cp:revision>12</cp:revision>
  <dc:subject/>
  <dc:title>영남대학교의료원</dc:title>
</cp:coreProperties>
</file>